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%D8%B3%D8%AD%D9%91%D8%A7%D8%A82.wav" ContentType="audio/x-wav"/>
  <Override PartName="/ppt/media/GUN.WAV" ContentType="audio/x-wav"/>
  <Override PartName="/ppt/media/RICOCHE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618-7944-4F81-A362-168488E4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7509-52F4-4C23-A08A-007F1A80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803-6B83-4392-BE53-BB8CD911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96E-862B-4632-AC4F-5F641F60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63F-0321-43D7-91AD-6DB58C6E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EE60-97F3-49BB-BAD2-01CB58CD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116-E31F-44A0-8FB3-514364BC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9AE-064F-4A62-99FD-2B86EAAD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6A2-43A0-486D-A59E-DBFA79C0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375-CE0E-464E-A001-92ACCAF6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1A0-7937-4A49-919B-36B5936B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773-D89F-486F-BDE8-352EEB99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3442D5-12BB-42B6-B744-63B098CBB80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audio" Target="../media/&#1587;&#1581;&#1617;&#1575;&#1576;2.wav"/><Relationship Id="rId6" Type="http://schemas.openxmlformats.org/officeDocument/2006/relationships/audio" Target="../media/GUN.WAV"/><Relationship Id="rId7" Type="http://schemas.openxmlformats.org/officeDocument/2006/relationships/audio" Target="../media/RICOCHET.WAV"/><Relationship Id="rId8" Type="http://schemas.openxmlformats.org/officeDocument/2006/relationships/audio" Target="../media/GUN.WAV"/><Relationship Id="rId9" Type="http://schemas.openxmlformats.org/officeDocument/2006/relationships/audio" Target="../media/RICOCHET.WAV"/><Relationship Id="rId10" Type="http://schemas.openxmlformats.org/officeDocument/2006/relationships/audio" Target="../media/GUN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1150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295280"/>
            <a:ext cx="7086600" cy="109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حركة وتنسيق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91320" y="2681280"/>
            <a:ext cx="3351240" cy="120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267080"/>
            <a:ext cx="7086600" cy="109800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b10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اكتب هن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400" y="5573880"/>
            <a:ext cx="3566880" cy="1282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" name="%D8%B3%D8%AD%D9%91%D8%A7%D8%A8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عادل باحداد</dc:creator>
  <dc:description/>
  <dc:language>en-US</dc:language>
  <cp:lastModifiedBy>nour3iny</cp:lastModifiedBy>
  <dcterms:modified xsi:type="dcterms:W3CDTF">2010-01-02T15:01:51Z</dcterms:modified>
  <cp:revision>26</cp:revision>
  <dc:subject/>
  <dc:title>No Slide Title</dc:title>
</cp:coreProperties>
</file>